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4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6"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07DF-158F-4837-9725-539B6131D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3649-24E2-4DB7-BE65-155C118B10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ADFB-EC7A-4557-A026-1CFF5CD7EB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6E38C-7BF8-46CF-BBDD-0E8C34D13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53B49-B266-4E68-9AFA-EA450507D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38"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DD4927C-320F-4EF6-BF6F-B4E3AEA57C9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A3EF7F1-0A5E-45B2-B6F1-9CC8F7E5DE7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095C225-34AA-4656-9528-783BD34759E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3"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4"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383A633-78E7-43B1-BA14-BA1969059BF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7"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8"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D24CC6B-B5A7-4412-898E-1AE7CC31667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2"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B5CE288-B2F8-4EEE-96A4-02FF50874DC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5"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BD4CA7B-BE78-4F7F-833D-BAECB9FF4D5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8"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9"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0"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7B6C6CA-B0F1-4B82-8CB1-A2589ACCFA9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3"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4"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5"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6"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7"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505BBED-9538-43D2-A992-E15941EE25D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398C79B-DF01-47F3-8990-45792592072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3"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4C1DA-47FD-4CDE-9D1D-14544C31E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879AE5F-5050-457B-824B-74EEFE72214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3E73A88-A8A6-40E5-8985-58AD959A751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79"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5C9B22B-4441-48BC-A3D6-4076A73FAD3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CF0E3A7-6A8B-4CE4-91C2-F9B5AB7041B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FAAF53A-1039-4910-9537-B2180920826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4"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5"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7BCD6B6-91A7-4E7B-97AA-D840D4750F9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8"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9"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CD3EFC8-FB72-4DC5-94C4-3B9AF18D95B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2"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3"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9F65C27-740C-4D13-A683-25F5168056F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6"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3FC7382-1FA5-461E-BC9D-C416FAD9D93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9"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0"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1"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23EE4BF-3896-4DF6-A994-35AF2DD7490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7"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A7E4D-2ADC-49E0-AB80-5683E89FF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4"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5"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6"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7"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8"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B3D0083-199A-4FD7-85C5-77F78C7FB79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EE77EC8-5BCE-4BA5-A8C0-A40C7A27F1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BB160FF-3580-4F49-BE8D-FB6642F2CD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3ACB527-18E6-4F50-8DC6-F135866F8A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0"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5572E02-71C0-4A1C-803A-1A8CD02DC8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1BA855B-191E-4F1A-A827-AFC4F43D1F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F83E5BC-7728-4FF1-B709-1334C28F85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5"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6"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2E7B0B2-2317-4FF3-BF6B-4688CCDCC8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9"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0"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338BCC7-EEA7-4D10-BE6A-5748CDBE13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3"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4"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D5C816D-17BA-4B6F-B6AA-5FFE566C20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31858-503C-4F03-9F11-80E589B4A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7"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FF4E6A5-B54A-4C60-8C2B-7FC3C81304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0"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1"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2"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8D48559-A52F-41A3-B781-4DB4D41E00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5"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6"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7"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8"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9"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11F0E727-C1E4-482B-A90A-82D6E881CB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436AA06-4789-4315-81D6-6FF576CED1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9A2FE80-3944-4987-BFB2-5D88915E5E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B1FD945-9DB6-4C12-8870-105770414D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1"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9E0EC4A-E28E-4F7B-9D99-A5C7B024AB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84F04C2-3D49-4980-A098-8EAFA3BD56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748B189-9BC6-45B2-BA64-CA39B39CEC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6"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7"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5BEB8BD-2A50-461C-B06A-5840EF9649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5DAAE-1FE4-40F1-8366-7DF972A12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0"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1"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064977B-8E9F-4DAD-8212-EA8C2DCC8B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4"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5"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12183DF-305A-42F1-98F7-448A626CF9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8"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4869903-DAA3-4E0E-9E09-1A45361DDA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2"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3"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4A7D97B-D256-4863-8249-2C46EC9B83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6"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7"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8"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9"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90"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66286E4-8781-41AE-A342-B222A2931E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EB435-61F4-4A0C-88DA-81CEE46C8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2"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88123-7BA3-4DD5-B9A5-3C278D34B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3F8BF-5F20-48DB-B41B-C6A6A7BFB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9C028-0113-4165-9558-E06DA373F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7"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8"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35587-26AF-4CDF-A726-579F71B70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5E603-D28F-49EF-91A4-7BDBD289E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2"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7912C-D047-4BEC-ADD4-12617396E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5"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6"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BAD90-54E4-46F1-8C6F-BE35354D6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9"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4ECB1-D25D-4EC5-B55E-8967F1E94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2"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3"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4"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7AA246-A7BB-4EF1-8BC9-80C9188D5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7"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8"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9"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0"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1"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3ABB9-65EC-427F-918F-73B40467A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2"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CFCAE-789B-4FF9-9941-B817B00FE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7"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8"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2"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5"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6"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9"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2"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3"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4"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7"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8"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9"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0"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1"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E3A4279-9A32-4107-BAD1-027066E3DEB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8953EAC-206E-461F-80FE-E9446A54DA1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5569BFA-C446-4939-87E1-420A1127AE0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016E3-96A7-4587-AFDD-E4BC04562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3"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C62718B-77B3-4B37-9AB1-3EDC852FB8D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3DD5CB4-E33F-4EC1-A02B-0B599C2B9AF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B7A05B3-673B-4532-B6A4-A4239BD749E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8"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9"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B7E2333-CF20-4503-945A-EA5CB135E1C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2"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3"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AABAB12-AABD-4BFC-AB21-0E6A6C0CDDB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6"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7"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BA21B07-0FD2-44E2-9223-B188CD26C75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0"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2F95C64-4448-477D-BDC5-0E58187923D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3"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4"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5"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4DE9E6D-4464-4D9C-83E8-32761D56BE9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8"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9"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0"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1"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2"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8026630-304B-4666-949A-9CDCC74F1B7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2321AFB-D430-4F05-921D-E65899DFBF2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38E6E-38A8-4830-8AD0-0100BFF92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73E24C3-DB46-4794-8E9D-E0D1CA97AF1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802D8EF-7903-489E-9F5F-101C7AAEACF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4"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2746933-A53F-4D5E-A01C-7506AE0A92F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DCAEEC4-6738-4EFE-8538-5310A172099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C328DE2-E179-4D5B-92BB-A563CF4A9B0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9"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0"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A40C7E1-DBCB-491D-AEED-999CD9C1F97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3"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4"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ED7D358-D2F5-4753-8733-D06D8A5DBD4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7"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8"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3BB7B76-DA6E-45FF-B510-C86B7716172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1"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78E794E-6B5F-4DBE-8332-4ADD9B1C682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4"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5"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6"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C104F5C-8BF8-4CCB-9804-CA67072CC7A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22718-46A9-48CD-AF1F-1B6B425F6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9"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0"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1"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2"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3"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7E1293B-9F53-4CD2-B34D-707C3FFF2A9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61902B6-F173-4448-92CF-6D62C646D79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A9EE2CF-5078-4713-B83E-99A91EA35EC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4114F22-372B-48D1-9947-3AB24A18485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5"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2E2B841-B40A-4E4F-9F9C-7A45437A805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4914D1C-871E-44B8-9DA4-9DFC9F3D3CD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3D95E12-C750-4141-914C-6A8D6FA0C43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0"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1"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D952E64-03A0-4993-8492-E2AD5AEDCC7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4"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5"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9DF3A08-8FA9-4BD8-98E2-E2731E34E00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8"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B1C2D95-F86D-4345-AF34-2D35995B8BD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02537-8FB0-45FC-A8F4-5D434EB41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2"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34888CA-5907-412D-B021-675EA8DAF71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5"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6"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7"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F73DAEA-7A3E-4F90-9766-292D632C160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1"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3"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4"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2A1BAE1-AB21-4363-BAF5-D75D3BB277C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9FA6E55-113C-4748-8A1B-1552ED1B251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4ABCB4D-119B-4A45-8517-A868F6AE776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AA4AA4E-FED1-4CDA-B2BE-0A1413FCDA5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6"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8560ACF-B9D2-45CB-AB54-D07A995D5A8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43537D4-C5E1-4772-A96E-7A544C86802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EDA71D9-8F0C-43BF-AFBA-FAC71F9F907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1"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2"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D37F066-17E3-47F0-8A20-7899F25B74A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B5AED-1C89-4F36-BE2D-EF9E5B1B3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5"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6"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E5A9FB8-786B-4A5B-A1EA-A4010D5A720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9"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0"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0601B7E-6D3F-4829-AB97-81C0B0198E9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3"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7504EB3-399F-464D-A15B-377BC3E3048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6"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7"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8"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8276F27-E43E-431A-A3D7-1DC5FC3BED5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1"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2"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3"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4"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5"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CA3189A-0CD3-40DD-9115-9F4E34D5FEB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10CE2C3-4B97-4BAC-BEAF-0E64926676B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57F9EE1-7E18-4FA7-86B1-5F60581F4FF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5125671-0BB2-4F62-ADD7-8F15EA9EE9F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97"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D426EB2-24B5-4038-918B-32CEC6A1760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B8D26BB-79CF-4EAB-91BF-496CFA8911E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4E777-FDC8-4C30-A2F3-16BA5592C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7E7C0EE-65A2-470F-B9F4-C68691DB8A5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2"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3"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26EFBF7-A6FC-43D9-82A7-56B63E65AA4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6"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7"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462E81E-EC73-4122-B4F6-24E91CCE3A9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0"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1"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C36EA9B-5D6C-434F-B148-A6F8EEEAB63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4"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1EE53C6-436A-48CE-9083-ED3F778C27C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7"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8"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9"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BB2C1EC-8C88-4D6B-9BF9-15F174E154B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2"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3"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4"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5"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6"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5DA11DB-EC40-4EAD-9FB1-CCA5F29FA26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959BDD6-5187-4792-B9A6-8FC62D0CEF5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E82C4D8-4767-454F-B3C0-ECB6118AE23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96C3FDB-6053-4F6E-94DC-1CD700E01B31}"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ast Updated Nov-01-2010</a:t>
            </a:r>
            <a:r>
              <a:rPr b="0" lang="en-US"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8AA7-824D-4D59-AC9F-2C88ACFDCA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69"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370"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1"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D3B1-D6E8-49AA-922D-CC9E38561E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10"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411"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2"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9EED-D431-4A94-8675-36443445B6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51"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452"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3"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0DE6-FC47-465A-B67C-7C52C497AF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2"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7738-9E18-4904-AC16-86F8F64DB7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WIL logo.jpg"/>
          <p:cNvPicPr/>
          <p:nvPr/>
        </p:nvPicPr>
        <p:blipFill>
          <a:blip r:embed="rId2"/>
          <a:stretch/>
        </p:blipFill>
        <p:spPr>
          <a:xfrm>
            <a:off x="457200" y="152280"/>
            <a:ext cx="2305080" cy="381240"/>
          </a:xfrm>
          <a:prstGeom prst="rect">
            <a:avLst/>
          </a:prstGeom>
          <a:ln w="0">
            <a:noFill/>
          </a:ln>
        </p:spPr>
      </p:pic>
      <p:sp>
        <p:nvSpPr>
          <p:cNvPr id="83"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4"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85" name="PlaceHolder 3"/>
          <p:cNvSpPr>
            <a:spLocks noGrp="1"/>
          </p:cNvSpPr>
          <p:nvPr>
            <p:ph type="dt" idx="7"/>
          </p:nvPr>
        </p:nvSpPr>
        <p:spPr>
          <a:xfrm>
            <a:off x="3657600" y="6356520"/>
            <a:ext cx="1828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ast Updated </a:t>
            </a: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23"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24"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5"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2D03-D070-495D-AEBA-38D23573CB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64"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65"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7BF8-73C9-4E4E-AEDF-2CB75E4932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05"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06"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7"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090D-47F4-4396-A3E2-04535A4D5D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46"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47"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5"/>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697E-1EB7-4B3A-AECC-CF23D35087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87"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88"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790D-94FE-4F31-8576-8314D4F927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28"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329"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0"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685E-AEC0-4D85-83F4-280460F10B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80520" y="2362320"/>
            <a:ext cx="8534520" cy="1676160"/>
          </a:xfrm>
          <a:prstGeom prst="rect">
            <a:avLst/>
          </a:prstGeom>
          <a:solidFill>
            <a:srgbClr val="990000"/>
          </a:solidFill>
          <a:ln w="9360">
            <a:solidFill>
              <a:srgbClr val="be4b48"/>
            </a:solidFill>
            <a:miter/>
          </a:ln>
          <a:effectLst>
            <a:outerShdw dist="23040" dir="5400000" blurRad="0" rotWithShape="0">
              <a:srgbClr val="000000">
                <a:alpha val="3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formation Session</a:t>
            </a:r>
            <a:br>
              <a:rPr sz="3200"/>
            </a:br>
            <a:r>
              <a:rPr b="0" lang="en-US" sz="3200" spc="-1" strike="noStrike">
                <a:solidFill>
                  <a:srgbClr val="ffffff"/>
                </a:solidFill>
                <a:latin typeface="Arial"/>
                <a:ea typeface="Arial"/>
              </a:rPr>
              <a:t>for Job Seekers</a:t>
            </a:r>
            <a:endParaRPr b="0" lang="en-US" sz="3200" spc="-1" strike="noStrike">
              <a:solidFill>
                <a:srgbClr val="000000"/>
              </a:solidFill>
              <a:latin typeface="Calibri"/>
            </a:endParaRPr>
          </a:p>
        </p:txBody>
      </p:sp>
      <p:pic>
        <p:nvPicPr>
          <p:cNvPr id="499" name="Picture 3" descr="_58928.JPG"/>
          <p:cNvPicPr/>
          <p:nvPr/>
        </p:nvPicPr>
        <p:blipFill>
          <a:blip r:embed="rId1"/>
          <a:stretch/>
        </p:blipFill>
        <p:spPr>
          <a:xfrm>
            <a:off x="6172200" y="380880"/>
            <a:ext cx="2743200" cy="1828800"/>
          </a:xfrm>
          <a:prstGeom prst="rect">
            <a:avLst/>
          </a:prstGeom>
          <a:ln w="0">
            <a:noFill/>
          </a:ln>
        </p:spPr>
      </p:pic>
      <p:pic>
        <p:nvPicPr>
          <p:cNvPr id="500" name="Picture 4" descr="_58904.JPG"/>
          <p:cNvPicPr/>
          <p:nvPr/>
        </p:nvPicPr>
        <p:blipFill>
          <a:blip r:embed="rId2"/>
          <a:stretch/>
        </p:blipFill>
        <p:spPr>
          <a:xfrm>
            <a:off x="3276720" y="4343400"/>
            <a:ext cx="2743200" cy="1905120"/>
          </a:xfrm>
          <a:prstGeom prst="rect">
            <a:avLst/>
          </a:prstGeom>
          <a:ln w="0">
            <a:noFill/>
          </a:ln>
        </p:spPr>
      </p:pic>
      <p:pic>
        <p:nvPicPr>
          <p:cNvPr id="501" name="Picture 6" descr="_59052.JPG"/>
          <p:cNvPicPr/>
          <p:nvPr/>
        </p:nvPicPr>
        <p:blipFill>
          <a:blip r:embed="rId3"/>
          <a:stretch/>
        </p:blipFill>
        <p:spPr>
          <a:xfrm>
            <a:off x="380880" y="4343400"/>
            <a:ext cx="2781360" cy="1905120"/>
          </a:xfrm>
          <a:prstGeom prst="rect">
            <a:avLst/>
          </a:prstGeom>
          <a:ln w="0">
            <a:noFill/>
          </a:ln>
        </p:spPr>
      </p:pic>
      <p:pic>
        <p:nvPicPr>
          <p:cNvPr id="502" name="Picture 7" descr="_58991.JPG"/>
          <p:cNvPicPr/>
          <p:nvPr/>
        </p:nvPicPr>
        <p:blipFill>
          <a:blip r:embed="rId4"/>
          <a:stretch/>
        </p:blipFill>
        <p:spPr>
          <a:xfrm>
            <a:off x="6095880" y="4343400"/>
            <a:ext cx="2819520" cy="1905120"/>
          </a:xfrm>
          <a:prstGeom prst="rect">
            <a:avLst/>
          </a:prstGeom>
          <a:ln w="0">
            <a:noFill/>
          </a:ln>
        </p:spPr>
      </p:pic>
      <p:pic>
        <p:nvPicPr>
          <p:cNvPr id="503" name="Picture 8" descr="WIL logo.jpg"/>
          <p:cNvPicPr/>
          <p:nvPr/>
        </p:nvPicPr>
        <p:blipFill>
          <a:blip r:embed="rId5"/>
          <a:stretch/>
        </p:blipFill>
        <p:spPr>
          <a:xfrm>
            <a:off x="457200" y="380880"/>
            <a:ext cx="5029200" cy="83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ssential Job Search Skills Workshop</a:t>
            </a:r>
            <a:endParaRPr b="0" lang="en-US" sz="3200" spc="-1" strike="noStrike">
              <a:solidFill>
                <a:srgbClr val="000000"/>
              </a:solidFill>
              <a:latin typeface="Calibri"/>
            </a:endParaRPr>
          </a:p>
        </p:txBody>
      </p:sp>
      <p:sp>
        <p:nvSpPr>
          <p:cNvPr id="521"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SL Benchmark Level 4/5 and above</a:t>
            </a:r>
            <a:endParaRPr b="0" lang="en-US" sz="24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ommended for job search in </a:t>
            </a:r>
            <a:r>
              <a:rPr b="0" lang="en-US" sz="2000" spc="-1" strike="noStrike" u="sng">
                <a:solidFill>
                  <a:srgbClr val="ffffff"/>
                </a:solidFill>
                <a:uFillTx/>
                <a:latin typeface="Arial"/>
                <a:ea typeface="Arial"/>
              </a:rPr>
              <a:t>non-professiona</a:t>
            </a:r>
            <a:r>
              <a:rPr b="0" lang="en-US" sz="2000" spc="-1" strike="noStrike">
                <a:solidFill>
                  <a:srgbClr val="ffffff"/>
                </a:solidFill>
                <a:latin typeface="Arial"/>
                <a:ea typeface="Arial"/>
              </a:rPr>
              <a:t>l occupations</a:t>
            </a: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g. Service Industry, Customer Service, Manufacturing positions, etc.)</a:t>
            </a:r>
            <a:endParaRPr b="0" lang="en-US" sz="20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6 days  Full Time (Monday to Friday)</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30 a.m. to 3:30 p.m.</a:t>
            </a:r>
            <a:endParaRPr b="0" lang="en-US" sz="2400" spc="-1" strike="noStrike">
              <a:solidFill>
                <a:srgbClr val="ffffff"/>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ESL Essential Job Search Skills Workshop</a:t>
            </a:r>
            <a:endParaRPr b="0" lang="en-US" sz="2900" spc="-1" strike="noStrike">
              <a:solidFill>
                <a:srgbClr val="000000"/>
              </a:solidFill>
              <a:latin typeface="Calibri"/>
            </a:endParaRPr>
          </a:p>
        </p:txBody>
      </p:sp>
      <p:sp>
        <p:nvSpPr>
          <p:cNvPr id="523"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Topics Covered</a:t>
            </a:r>
            <a:r>
              <a:rPr b="1" lang="en-US" sz="2400" spc="-1" strike="noStrike">
                <a:solidFill>
                  <a:srgbClr val="ffffff"/>
                </a:solidFill>
                <a:latin typeface="Arial"/>
                <a:ea typeface="Arial"/>
              </a:rPr>
              <a:t>:</a:t>
            </a:r>
            <a:endParaRPr b="0" lang="en-US" sz="24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ffective Job Search Strategies</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over Letters &amp; Resumes</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References</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pplication Forms</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nterview Preparation</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onnect to a WIL Sales &amp; Marketing Advisor</a:t>
            </a:r>
            <a:r>
              <a:rPr b="1" lang="en-US" sz="2200" spc="-1" strike="noStrike">
                <a:solidFill>
                  <a:srgbClr val="ffffff"/>
                </a:solidFill>
                <a:latin typeface="Arial"/>
                <a:ea typeface="Arial"/>
              </a:rPr>
              <a:t>*</a:t>
            </a:r>
            <a:endParaRPr b="0" lang="en-US" sz="2200" spc="-1" strike="noStrike">
              <a:solidFill>
                <a:srgbClr val="ffffff"/>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f you are an immigrant whose first language is English, </a:t>
            </a:r>
            <a:endParaRPr b="0" lang="en-US" sz="2200" spc="-1" strike="noStrike">
              <a:solidFill>
                <a:srgbClr val="ffffff"/>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you also have the option of participating in a similar </a:t>
            </a:r>
            <a:endParaRPr b="0" lang="en-US" sz="2200" spc="-1" strike="noStrike">
              <a:solidFill>
                <a:srgbClr val="ffffff"/>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5 day Full Time Workshop for non-immigrant job seekers</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mployment Preparation for Internationally Trained Individuals (ITIs)</a:t>
            </a:r>
            <a:endParaRPr b="0" lang="en-US" sz="2600" spc="-1" strike="noStrike">
              <a:solidFill>
                <a:srgbClr val="000000"/>
              </a:solidFill>
              <a:latin typeface="Calibri"/>
            </a:endParaRPr>
          </a:p>
        </p:txBody>
      </p:sp>
      <p:sp>
        <p:nvSpPr>
          <p:cNvPr id="525"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SL Benchmark Level 7 and above</a:t>
            </a:r>
            <a:endParaRPr b="0" lang="en-US" sz="24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ommended for job search in </a:t>
            </a:r>
            <a:r>
              <a:rPr b="0" lang="en-US" sz="2000" spc="-1" strike="noStrike" u="sng">
                <a:solidFill>
                  <a:srgbClr val="ffffff"/>
                </a:solidFill>
                <a:uFillTx/>
                <a:latin typeface="Arial"/>
                <a:ea typeface="Arial"/>
              </a:rPr>
              <a:t>professional</a:t>
            </a:r>
            <a:r>
              <a:rPr b="0" lang="en-US" sz="2000" spc="-1" strike="noStrike">
                <a:solidFill>
                  <a:srgbClr val="ffffff"/>
                </a:solidFill>
                <a:latin typeface="Arial"/>
                <a:ea typeface="Arial"/>
              </a:rPr>
              <a:t> occupations for those individuals who have international education/experience</a:t>
            </a: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g. Health Professions, Engineering, Finance, Science, etc.)</a:t>
            </a: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6.5 days Full Time</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15 a.m to 3:30 p.m. (Monday to Thursday)</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0:00 a.m. to 3:30 p.m. (Friday)</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ployment Preparation for ITIs</a:t>
            </a:r>
            <a:endParaRPr b="0" lang="en-US" sz="3200" spc="-1" strike="noStrike">
              <a:solidFill>
                <a:srgbClr val="000000"/>
              </a:solidFill>
              <a:latin typeface="Calibri"/>
            </a:endParaRPr>
          </a:p>
        </p:txBody>
      </p:sp>
      <p:sp>
        <p:nvSpPr>
          <p:cNvPr id="527"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Workshop Topic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ffective Job Search Strategie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ver Letters and Resume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terview Skill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orkplace Succes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nadian Business Culture</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mployment Standards in Ontario</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necting with Employers*</a:t>
            </a:r>
            <a:endParaRPr b="0" lang="en-US" sz="2400" spc="-1" strike="noStrike">
              <a:solidFill>
                <a:srgbClr val="ffffff"/>
              </a:solidFill>
              <a:latin typeface="Calibri"/>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ake one workshop or take them all</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ust complete </a:t>
            </a:r>
            <a:r>
              <a:rPr b="0" lang="en-US" sz="2400" spc="-1" strike="noStrike" u="sng">
                <a:solidFill>
                  <a:srgbClr val="ffffff"/>
                </a:solidFill>
                <a:uFillTx/>
                <a:latin typeface="Arial"/>
                <a:ea typeface="Arial"/>
              </a:rPr>
              <a:t>all</a:t>
            </a:r>
            <a:r>
              <a:rPr b="0" lang="en-US" sz="2400" spc="-1" strike="noStrike">
                <a:solidFill>
                  <a:srgbClr val="ffffff"/>
                </a:solidFill>
                <a:latin typeface="Arial"/>
                <a:ea typeface="Arial"/>
              </a:rPr>
              <a:t> workshops to qualify for </a:t>
            </a:r>
            <a:endParaRPr b="0" lang="en-US" sz="2400" spc="-1" strike="noStrike">
              <a:solidFill>
                <a:srgbClr val="ffffff"/>
              </a:solidFill>
              <a:latin typeface="Calibri"/>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ob search support from WIL’s Sales &amp; Marketing team</a:t>
            </a:r>
            <a:endParaRPr b="0" lang="en-US" sz="2400" spc="-1" strike="noStrike">
              <a:solidFill>
                <a:srgbClr val="ffffff"/>
              </a:solidFill>
              <a:latin typeface="Calibri"/>
            </a:endParaRPr>
          </a:p>
          <a:p>
            <a:pPr marL="457200" indent="-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necting with Employers</a:t>
            </a:r>
            <a:endParaRPr b="0" lang="en-US" sz="3200" spc="-1" strike="noStrike">
              <a:solidFill>
                <a:srgbClr val="000000"/>
              </a:solidFill>
              <a:latin typeface="Calibri"/>
            </a:endParaRPr>
          </a:p>
        </p:txBody>
      </p:sp>
      <p:sp>
        <p:nvSpPr>
          <p:cNvPr id="529"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nect with a WIL Sales &amp; Marketing Advisor after successful completion of Employment Preparation workshops</a:t>
            </a:r>
            <a:endParaRPr b="0" lang="en-US" sz="2400" spc="-1" strike="noStrike">
              <a:solidFill>
                <a:srgbClr val="ffffff"/>
              </a:solidFill>
              <a:latin typeface="Calibri"/>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ligible to participate in an 8 week </a:t>
            </a:r>
            <a:r>
              <a:rPr b="0" lang="en-US" sz="2200" spc="-1" strike="noStrike" u="sng">
                <a:solidFill>
                  <a:srgbClr val="ffffff"/>
                </a:solidFill>
                <a:uFillTx/>
                <a:latin typeface="Arial"/>
                <a:ea typeface="Arial"/>
              </a:rPr>
              <a:t>volunteer</a:t>
            </a:r>
            <a:r>
              <a:rPr b="0" lang="en-US" sz="2200" spc="-1" strike="noStrike">
                <a:solidFill>
                  <a:srgbClr val="ffffff"/>
                </a:solidFill>
                <a:latin typeface="Arial"/>
                <a:ea typeface="Arial"/>
              </a:rPr>
              <a:t> work placement to gain valuable Canadian work experience</a:t>
            </a:r>
            <a:endParaRPr b="0" lang="en-US" sz="2200" spc="-1" strike="noStrike">
              <a:solidFill>
                <a:srgbClr val="ffffff"/>
              </a:solidFill>
              <a:latin typeface="Calibri"/>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Ongoing job leads and job search support</a:t>
            </a:r>
            <a:endParaRPr b="0" lang="en-US" sz="2200" spc="-1" strike="noStrike">
              <a:solidFill>
                <a:srgbClr val="ffffff"/>
              </a:solidFill>
              <a:latin typeface="Calibri"/>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Ongoing networking opportunities with local employers</a:t>
            </a:r>
            <a:endParaRPr b="0" lang="en-US" sz="22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ligible to participate in local Mentorship program</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osting on Skills International – province-wide database</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Mentorship for Newcomer Success Program</a:t>
            </a:r>
            <a:endParaRPr b="0" lang="en-US" sz="2900" spc="-1" strike="noStrike">
              <a:solidFill>
                <a:srgbClr val="000000"/>
              </a:solidFill>
              <a:latin typeface="Calibri"/>
            </a:endParaRPr>
          </a:p>
        </p:txBody>
      </p:sp>
      <p:sp>
        <p:nvSpPr>
          <p:cNvPr id="531"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tches ITIs with local mentors in their field</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xpand your networking opportunities to access the hidden job market and learn more about your profession in Canada</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tch is for 24 hours of time with a local mentor over a period of 6 month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ust have completed all workshops (or be referred by one of our community partners) to be eligible to participate</a:t>
            </a:r>
            <a:endParaRPr b="0" lang="en-US" sz="2400" spc="-1" strike="noStrike">
              <a:solidFill>
                <a:srgbClr val="ffffff"/>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mentorship.wil.c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kills International</a:t>
            </a:r>
            <a:endParaRPr b="0" lang="en-US" sz="3200" spc="-1" strike="noStrike">
              <a:solidFill>
                <a:srgbClr val="000000"/>
              </a:solidFill>
              <a:latin typeface="Calibri"/>
            </a:endParaRPr>
          </a:p>
        </p:txBody>
      </p:sp>
      <p:sp>
        <p:nvSpPr>
          <p:cNvPr id="533"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nly online searchable database of its kind</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dicated exclusively to profiling the skills of immigrant job seeker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nects pre-screened ITIs with registered employers seeking their skills from across Ontario</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y successful tool to assist you in marketing your skills </a:t>
            </a:r>
            <a:endParaRPr b="0" lang="en-US" sz="24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skillsinternational.ca</a:t>
            </a:r>
            <a:endParaRPr b="0" lang="en-US" sz="28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535"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Calibri"/>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ea typeface="Arial"/>
              </a:rPr>
              <a:t>Community Partnerships</a:t>
            </a:r>
            <a:endParaRPr b="0" lang="en-US" sz="5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ployment Resource Centre</a:t>
            </a:r>
            <a:endParaRPr b="0" lang="en-US" sz="3200" spc="-1" strike="noStrike">
              <a:solidFill>
                <a:srgbClr val="000000"/>
              </a:solidFill>
              <a:latin typeface="Calibri"/>
            </a:endParaRPr>
          </a:p>
        </p:txBody>
      </p:sp>
      <p:sp>
        <p:nvSpPr>
          <p:cNvPr id="537"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Skill Centre Employment Resource Centre (2</a:t>
            </a:r>
            <a:r>
              <a:rPr b="0" lang="en-US" sz="2400" spc="-1" strike="noStrike" baseline="30000">
                <a:solidFill>
                  <a:srgbClr val="ffffff"/>
                </a:solidFill>
                <a:latin typeface="Arial"/>
                <a:ea typeface="Arial"/>
              </a:rPr>
              <a:t>nd</a:t>
            </a:r>
            <a:r>
              <a:rPr b="0" lang="en-US" sz="2400" spc="-1" strike="noStrike">
                <a:solidFill>
                  <a:srgbClr val="ffffff"/>
                </a:solidFill>
                <a:latin typeface="Arial"/>
                <a:ea typeface="Arial"/>
              </a:rPr>
              <a:t> floor)</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puter Labs, Internet Access &amp; Microsoft Office Software</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ccess to telephones, fax and photocopy equipment to support job search</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abour Market Information, Job Board &amp; Reference material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Access Centre for Regulated Employment</a:t>
            </a:r>
            <a:endParaRPr b="0" lang="en-US" sz="2900" spc="-1" strike="noStrike">
              <a:solidFill>
                <a:srgbClr val="000000"/>
              </a:solidFill>
              <a:latin typeface="Calibri"/>
            </a:endParaRPr>
          </a:p>
        </p:txBody>
      </p:sp>
      <p:sp>
        <p:nvSpPr>
          <p:cNvPr id="539"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roximately 35 regulated professions in Ontario</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vides information and application submission assistance to ITIs seeking licensure in Ontario’s regulated profession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ssistance in having educational credentials assessed</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accesscentre.c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oday’s Agenda</a:t>
            </a:r>
            <a:endParaRPr b="0" lang="en-US" sz="3200" spc="-1" strike="noStrike">
              <a:solidFill>
                <a:srgbClr val="000000"/>
              </a:solidFill>
              <a:latin typeface="Calibri"/>
            </a:endParaRPr>
          </a:p>
        </p:txBody>
      </p:sp>
      <p:sp>
        <p:nvSpPr>
          <p:cNvPr id="505"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457200" indent="-457200">
              <a:lnSpc>
                <a:spcPct val="90000"/>
              </a:lnSpc>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Welcome / Introduction</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 few housekeeping items</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bout WIL Employment Connections</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Overview of Programs &amp; Services</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Question &amp; Answer</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Short break</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Registration</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Complete a Needs Assessment</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Book an appointment with an Employment Counsellor</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lothingworks</a:t>
            </a:r>
            <a:endParaRPr b="0" lang="en-US" sz="3200" spc="-1" strike="noStrike">
              <a:solidFill>
                <a:srgbClr val="000000"/>
              </a:solidFill>
              <a:latin typeface="Calibri"/>
            </a:endParaRPr>
          </a:p>
        </p:txBody>
      </p:sp>
      <p:sp>
        <p:nvSpPr>
          <p:cNvPr id="541"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vides you with up to three free job appropriate outfits to keep.</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 referral is required to get an appointment. Speak with your employment counsellor to get a referral.</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clothingworks.ca</a:t>
            </a:r>
            <a:endParaRPr b="0" lang="en-US" sz="28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176"/>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alibri"/>
            </a:endParaRPr>
          </a:p>
          <a:p>
            <a:pPr marL="343080" indent="-343080">
              <a:lnSpc>
                <a:spcPct val="100000"/>
              </a:lnSpc>
              <a:spcBef>
                <a:spcPts val="176"/>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tact Information</a:t>
            </a:r>
            <a:endParaRPr b="0" lang="en-US" sz="3200" spc="-1" strike="noStrike">
              <a:solidFill>
                <a:srgbClr val="000000"/>
              </a:solidFill>
              <a:latin typeface="Calibri"/>
            </a:endParaRPr>
          </a:p>
        </p:txBody>
      </p:sp>
      <p:sp>
        <p:nvSpPr>
          <p:cNvPr id="543"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WIL Employment Connections</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41 Dundas Street, 4</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Floor</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ondon, ON  N6A 1G3</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19.663.0774</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reerinformation@wil.ca</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ww.WIL.ca</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oin us on Facebook:</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ww.facebook.com/WILEmploymentConnections</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bout WIL</a:t>
            </a:r>
            <a:endParaRPr b="0" lang="en-US" sz="3200" spc="-1" strike="noStrike">
              <a:solidFill>
                <a:srgbClr val="000000"/>
              </a:solidFill>
              <a:latin typeface="Calibri"/>
            </a:endParaRPr>
          </a:p>
        </p:txBody>
      </p:sp>
      <p:sp>
        <p:nvSpPr>
          <p:cNvPr id="507"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Non-profit community organization that has been providing employment support services and career development solutions since 1984</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Programs and services designed to provide job seekers with the skills/confidence they need to succeed</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IL helps clients identify career goals, provides programs designed to achieve employment, and offers educational upgrading tools to develop employment options</a:t>
            </a:r>
            <a:endParaRPr b="0" lang="en-US" sz="22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ea typeface="Arial"/>
              </a:rPr>
              <a:t>No cost</a:t>
            </a:r>
            <a:r>
              <a:rPr b="0" lang="en-US" sz="2800" spc="-1" strike="noStrike">
                <a:solidFill>
                  <a:srgbClr val="ffffff"/>
                </a:solidFill>
                <a:latin typeface="Arial"/>
                <a:ea typeface="Arial"/>
              </a:rPr>
              <a:t> if you are currently unemployed or under-employed</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verview of Programs &amp; Services</a:t>
            </a:r>
            <a:endParaRPr b="0" lang="en-US" sz="3200" spc="-1" strike="noStrike">
              <a:solidFill>
                <a:srgbClr val="000000"/>
              </a:solidFill>
              <a:latin typeface="Calibri"/>
            </a:endParaRPr>
          </a:p>
        </p:txBody>
      </p:sp>
      <p:sp>
        <p:nvSpPr>
          <p:cNvPr id="509"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rograms and services we will be discussing today:</a:t>
            </a:r>
            <a:endParaRPr b="0" lang="en-US" sz="2400" spc="-1" strike="noStrike">
              <a:solidFill>
                <a:srgbClr val="ffffff"/>
              </a:solidFill>
              <a:latin typeface="Calibri"/>
            </a:endParaRPr>
          </a:p>
          <a:p>
            <a:pPr lvl="1" marL="914400" indent="-514440">
              <a:lnSpc>
                <a:spcPct val="100000"/>
              </a:lnSpc>
              <a:spcBef>
                <a:spcPts val="601"/>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mployment </a:t>
            </a:r>
            <a:r>
              <a:rPr b="0" lang="en-CA" sz="2400" spc="-1" strike="noStrike">
                <a:solidFill>
                  <a:srgbClr val="ffffff"/>
                </a:solidFill>
                <a:latin typeface="Arial"/>
                <a:ea typeface="Arial"/>
              </a:rPr>
              <a:t>Counselling</a:t>
            </a:r>
            <a:endParaRPr b="0" lang="en-US" sz="2400" spc="-1" strike="noStrike">
              <a:solidFill>
                <a:srgbClr val="ffffff"/>
              </a:solidFill>
              <a:latin typeface="Calibri"/>
            </a:endParaRPr>
          </a:p>
          <a:p>
            <a:pPr lvl="1" marL="914400" indent="-514440">
              <a:lnSpc>
                <a:spcPct val="100000"/>
              </a:lnSpc>
              <a:spcBef>
                <a:spcPts val="601"/>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rade 12 Equivalency (GED Program)</a:t>
            </a:r>
            <a:endParaRPr b="0" lang="en-US" sz="2400" spc="-1" strike="noStrike">
              <a:solidFill>
                <a:srgbClr val="ffffff"/>
              </a:solidFill>
              <a:latin typeface="Calibri"/>
            </a:endParaRPr>
          </a:p>
          <a:p>
            <a:pPr lvl="1" marL="914400" indent="-514440">
              <a:lnSpc>
                <a:spcPct val="100000"/>
              </a:lnSpc>
              <a:spcBef>
                <a:spcPts val="601"/>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reer Planning Tools / Career Assessments</a:t>
            </a:r>
            <a:endParaRPr b="0" lang="en-US" sz="2400" spc="-1" strike="noStrike">
              <a:solidFill>
                <a:srgbClr val="ffffff"/>
              </a:solidFill>
              <a:latin typeface="Calibri"/>
            </a:endParaRPr>
          </a:p>
          <a:p>
            <a:pPr lvl="1" marL="914400" indent="-514440">
              <a:lnSpc>
                <a:spcPct val="100000"/>
              </a:lnSpc>
              <a:spcBef>
                <a:spcPts val="601"/>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mployment Preparation Workshops</a:t>
            </a:r>
            <a:endParaRPr b="0" lang="en-US" sz="2400" spc="-1" strike="noStrike">
              <a:solidFill>
                <a:srgbClr val="ffffff"/>
              </a:solidFill>
              <a:latin typeface="Calibri"/>
            </a:endParaRPr>
          </a:p>
          <a:p>
            <a:pPr lvl="1" marL="914400" indent="-5144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ployment </a:t>
            </a:r>
            <a:r>
              <a:rPr b="1" lang="en-CA" sz="3200" spc="-1" strike="noStrike">
                <a:solidFill>
                  <a:srgbClr val="000000"/>
                </a:solidFill>
                <a:latin typeface="Arial"/>
                <a:ea typeface="Arial"/>
              </a:rPr>
              <a:t>Counselling</a:t>
            </a:r>
            <a:endParaRPr b="0" lang="en-US" sz="3200" spc="-1" strike="noStrike">
              <a:solidFill>
                <a:srgbClr val="000000"/>
              </a:solidFill>
              <a:latin typeface="Calibri"/>
            </a:endParaRPr>
          </a:p>
        </p:txBody>
      </p:sp>
      <p:sp>
        <p:nvSpPr>
          <p:cNvPr id="511"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rial"/>
              </a:rPr>
              <a:t>Alone or combined with any of our programs and services, employment counselling provides you with valuable support in the employment planning and development proces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rial"/>
              </a:rPr>
              <a:t> </a:t>
            </a:r>
            <a:r>
              <a:rPr b="0" lang="en-CA" sz="2400" spc="-1" strike="noStrike">
                <a:solidFill>
                  <a:srgbClr val="ffffff"/>
                </a:solidFill>
                <a:latin typeface="Arial"/>
                <a:ea typeface="Arial"/>
              </a:rPr>
              <a:t>A personal, client-centred approach to discuss  concerns, explore employment options and establish achievable employment goal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rial"/>
              </a:rPr>
              <a:t>Trained and experienced counsellors work with clients to make informed choices about future employment</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 Employment </a:t>
            </a:r>
            <a:r>
              <a:rPr b="1" lang="en-CA" sz="3200" spc="-1" strike="noStrike">
                <a:solidFill>
                  <a:srgbClr val="000000"/>
                </a:solidFill>
                <a:latin typeface="Arial"/>
                <a:ea typeface="Arial"/>
              </a:rPr>
              <a:t>Counsellor</a:t>
            </a:r>
            <a:r>
              <a:rPr b="1" lang="en-US" sz="3200" spc="-1" strike="noStrike">
                <a:solidFill>
                  <a:srgbClr val="000000"/>
                </a:solidFill>
                <a:latin typeface="Arial"/>
                <a:ea typeface="Arial"/>
              </a:rPr>
              <a:t> will:</a:t>
            </a:r>
            <a:endParaRPr b="0" lang="en-US" sz="3200" spc="-1" strike="noStrike">
              <a:solidFill>
                <a:srgbClr val="000000"/>
              </a:solidFill>
              <a:latin typeface="Calibri"/>
            </a:endParaRPr>
          </a:p>
        </p:txBody>
      </p:sp>
      <p:sp>
        <p:nvSpPr>
          <p:cNvPr id="513"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fontScale="96000"/>
          </a:bodyPr>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Meet with you to discuss your employment needs </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ork with you to develop a clear </a:t>
            </a:r>
            <a:r>
              <a:rPr b="0" lang="en-US" sz="2200" spc="-1" strike="noStrike" u="sng">
                <a:solidFill>
                  <a:srgbClr val="ffffff"/>
                </a:solidFill>
                <a:uFillTx/>
                <a:latin typeface="Arial"/>
                <a:ea typeface="Arial"/>
              </a:rPr>
              <a:t>Employment Action Plan</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Discuss your employment and training options</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id you with document evaluation and translation</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Provide ongoing support, guidance, information and referrals to relevant community supports and training</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ork through and resolve any work-related issues</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ssist you with Second Career, Self Employment Benefit, and Libro Loan applications</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rade 12 Equivalency (GED Program)</a:t>
            </a:r>
            <a:endParaRPr b="0" lang="en-US" sz="3200" spc="-1" strike="noStrike">
              <a:solidFill>
                <a:srgbClr val="000000"/>
              </a:solidFill>
              <a:latin typeface="Calibri"/>
            </a:endParaRPr>
          </a:p>
        </p:txBody>
      </p:sp>
      <p:sp>
        <p:nvSpPr>
          <p:cNvPr id="515"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General Educational Development (GED) testing program allows adults who have not finished high school in Canada or outside of Canada to show that they have acquired the knowledge and skills associated with, and comparable to, high school completion. </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L offers a GED Assessment and Preparation program for individuals interested in obtaining their high school equivalency</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Career Planning Tools/Career Assessments</a:t>
            </a:r>
            <a:endParaRPr b="0" lang="en-US" sz="2900" spc="-1" strike="noStrike">
              <a:solidFill>
                <a:srgbClr val="000000"/>
              </a:solidFill>
              <a:latin typeface="Calibri"/>
            </a:endParaRPr>
          </a:p>
        </p:txBody>
      </p:sp>
      <p:sp>
        <p:nvSpPr>
          <p:cNvPr id="517"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 career assessment is a process to explore/determine your natural abilities, transferable skills, work interests and preferred work environment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L offers several career planning tools/ career assessments to help confirm career choices or open doors to new opportunitie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reer Planning tools can help you:</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ke informed career/training choice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dentify careers that may be a good fit for you</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ove your career in an exciting new direction that you might not have previously considered</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ployment Preparation Workshops</a:t>
            </a:r>
            <a:endParaRPr b="0" lang="en-US" sz="3200" spc="-1" strike="noStrike">
              <a:solidFill>
                <a:srgbClr val="000000"/>
              </a:solidFill>
              <a:latin typeface="Calibri"/>
            </a:endParaRPr>
          </a:p>
        </p:txBody>
      </p:sp>
      <p:sp>
        <p:nvSpPr>
          <p:cNvPr id="519"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L offers 2 workshop series for immigrant job seekers</a:t>
            </a:r>
            <a:endParaRPr b="0" lang="en-US" sz="24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ea typeface="Arial"/>
              </a:rPr>
              <a:t>1.  </a:t>
            </a:r>
            <a:r>
              <a:rPr b="1" lang="en-US" sz="2300" spc="-1" strike="noStrike">
                <a:solidFill>
                  <a:srgbClr val="ffffff"/>
                </a:solidFill>
                <a:latin typeface="Arial"/>
                <a:ea typeface="Arial"/>
              </a:rPr>
              <a:t>	</a:t>
            </a:r>
            <a:r>
              <a:rPr b="1" lang="en-US" sz="2300" spc="-1" strike="noStrike">
                <a:solidFill>
                  <a:srgbClr val="ffffff"/>
                </a:solidFill>
                <a:latin typeface="Arial"/>
                <a:ea typeface="Arial"/>
              </a:rPr>
              <a:t>ESL Essential Job Search Skills </a:t>
            </a:r>
            <a:endParaRPr b="0" lang="en-US" sz="2300" spc="-1" strike="noStrike">
              <a:solidFill>
                <a:srgbClr val="ffffff"/>
              </a:solidFill>
              <a:latin typeface="Calibri"/>
            </a:endParaRPr>
          </a:p>
          <a:p>
            <a:pPr lvl="1" marL="85716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or immigrant job seekers seeking non-professional employment</a:t>
            </a:r>
            <a:endParaRPr b="0" lang="en-US" sz="2000" spc="-1" strike="noStrike">
              <a:solidFill>
                <a:srgbClr val="ffffff"/>
              </a:solidFill>
              <a:latin typeface="Calibri"/>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343080" indent="-343080" algn="ctr">
              <a:lnSpc>
                <a:spcPct val="100000"/>
              </a:lnSpc>
              <a:spcBef>
                <a:spcPts val="575"/>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ea typeface="Arial"/>
              </a:rPr>
              <a:t>Employment Preparation for Internationally Trained Individuals (ITIs)</a:t>
            </a:r>
            <a:endParaRPr b="0" lang="en-US" sz="2300" spc="-1" strike="noStrike">
              <a:solidFill>
                <a:srgbClr val="ffffff"/>
              </a:solidFill>
              <a:latin typeface="Calibri"/>
            </a:endParaRPr>
          </a:p>
          <a:p>
            <a:pPr lvl="1" marL="85716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or immigrant job seekers seeking professional employment</a:t>
            </a:r>
            <a:endParaRPr b="0" lang="en-US" sz="2000" spc="-1" strike="noStrike">
              <a:solidFill>
                <a:srgbClr val="ffffff"/>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17:41:23Z</dcterms:created>
  <dc:creator>devinm</dc:creator>
  <dc:description/>
  <dc:language>en-US</dc:language>
  <cp:lastModifiedBy>aholmes</cp:lastModifiedBy>
  <dcterms:modified xsi:type="dcterms:W3CDTF">2011-07-08T18:42:30Z</dcterms:modified>
  <cp:revision>45</cp:revision>
  <dc:subject/>
  <dc:title>Information Session for All Job Seekers</dc:title>
</cp:coreProperties>
</file>